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AC1-F86E-4F3C-B6DC-2C1A7709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FE0-F349-4B94-960C-69A2B672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EC8-2B53-4E03-9C71-0C1F56EB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D06-F4B7-433E-BE1D-FAE38871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7043-E2C7-41A5-A493-8B0CB6AF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CFDF-D6CD-45A3-910A-1BE7184D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FCCA-9481-40CF-936F-0F2E6FEC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691E-C6D4-4FB4-8EA8-268C2B3F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B1BF-AA54-4338-BFCC-326E041A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2FE3-AD80-4377-AA08-F22DC53A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016E-EB91-4E99-94B7-819A8F7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63D-E98C-4E53-9FF9-01434E05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6F02-C4F0-43BB-96A5-C1F6CC23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4BD6-D151-4173-8E27-FA2F6E93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BED5-72B7-4666-9554-EE6C776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0171-E0CD-4A33-9E61-F9C7AD2E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985F-79D2-43F8-939B-344A4DAB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5F37-D299-4CB9-8EE4-48A0F2F6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6FFB-CB33-46D7-848D-71955F7B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0FC4-DCAF-46A3-B1B5-D1276253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829A-D0AD-4101-818A-C854C541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9A8D-0335-41C5-BB77-FB2EDBEE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8BF-897E-49AC-B96E-9AA7F137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B63C3-324E-494B-B5CF-6410E6BD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A48E-F616-4681-B464-4109F695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6552-D3C3-4BA7-A9B7-1F2F104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5987-F56F-412B-A7CB-F7D5F494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350F-AF2B-4C97-BAA2-93CE8E6D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72C2-6D31-4D1D-880E-AA5276B3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2BA5-37C8-4DDA-9709-3F6D3FC1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8076-B7B8-4B5A-84AA-2061451F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F1AF0-44F7-4E9A-9B2F-DA4CC69C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DC72A-788C-4B8B-AD39-00F4A89D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407-35DE-40F3-9102-9ACC4CF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040E-8B97-4E6F-81EC-0C459D77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BAB3-26B4-4D28-92BC-541964DD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6A35-2584-4131-B47A-A7FA2E77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794E-0B95-47A9-8B53-A18A4856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4128-36F9-4CFB-A0C0-57CCCD0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69B8E-D194-4529-9AD8-95EE6DD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F34B-A870-4DAA-9B95-4E18930B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3F644-EC77-476E-BC07-4A821C36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B54EA-3029-4818-8B18-1BAEDBB5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4B8-0B54-4A81-A880-2F19618C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E37-4C6B-4448-8414-FA582988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AE9-C75B-43A5-89F2-6ACD512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5D1-EEA6-4850-9D14-EF53FF5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C53-3B95-4FC2-BBEB-EB84EC5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F687-E974-4488-B758-2350C7C17FF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7690-F9B9-4A39-8B1F-318E8FCFDE7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30B1-EF3C-4B4A-A1E6-748D2531D2D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CC7D-836B-4029-8030-845706C0AFA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49/95/49095620_kometa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-main-pic" descr="Картинка 92 из 72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1000080"/>
            <a:ext cx="7358040" cy="52866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3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Выполнил:  Лобанов Алексей Александрови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тудент 4 кур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изико-математический факульт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ыктывкар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? Основополагающий вопрос?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лкнется ли комета с Земл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3" descr="http://www.impactlab.com/wp-content/uploads/2009/04/comet_1294349c.jpg"/>
          <p:cNvPicPr/>
          <p:nvPr/>
        </p:nvPicPr>
        <p:blipFill>
          <a:blip r:embed="rId1"/>
          <a:stretch/>
        </p:blipFill>
        <p:spPr>
          <a:xfrm>
            <a:off x="1928880" y="2571840"/>
            <a:ext cx="53337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? Проблемные вопросы 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омета Галлея в истории Росс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троение кометы Галле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ремя существования ком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вижение ком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уктура коме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бита и скорос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кометных орбит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2580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едставление результатов исследов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и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сс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ворческое зад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зентац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блиц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то - репортаж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обще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Распределение по группа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285920"/>
          <a:ext cx="8229600" cy="5095800"/>
        </p:xfrm>
        <a:graphic>
          <a:graphicData uri="http://schemas.openxmlformats.org/drawingml/2006/table">
            <a:tbl>
              <a:tblPr/>
              <a:tblGrid>
                <a:gridCol w="1042920"/>
                <a:gridCol w="3714840"/>
                <a:gridCol w="1414440"/>
                <a:gridCol w="2057400"/>
              </a:tblGrid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ед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мета Галлея в истории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оение кометы Галл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 существования ко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вижение ко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вижение ко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бита и 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ассификация кометных ор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должительность проект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 недел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тапы проведения проек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бор и формулировка те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иск информ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стоятельная работа учащих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доставление результатов исслед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krugosvet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astro.websib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1:06:24Z</dcterms:created>
  <dc:creator>Анжелика</dc:creator>
  <dc:description/>
  <dc:language>en-US</dc:language>
  <cp:lastModifiedBy>Анжелика</cp:lastModifiedBy>
  <dcterms:modified xsi:type="dcterms:W3CDTF">2010-05-15T12:07:03Z</dcterms:modified>
  <cp:revision>6</cp:revision>
  <dc:subject/>
  <dc:title>Малые тела Солнечной системы</dc:title>
</cp:coreProperties>
</file>